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34C-3EBF-4456-94B3-3807CE54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5E1-3EAB-487D-AB16-8531C1D1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08A-1961-4DD6-8410-3D4EEEB7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699-42B5-4C3D-A1D9-7EEA240F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516E-BBB2-4DEB-A28B-B92A084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7ABA-6626-4432-826E-B5415B22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1C32-56FF-4A3B-8E00-7D47ACB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92A9-CE6A-45BC-A5A9-58E39FC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4BB9-F109-4D05-B012-89C021D6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6C73-743B-4B92-8196-FEC61059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696-C7F9-48C2-9CD8-05191063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069-CC1A-485A-B5D0-DACE33CC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1A3F-1D20-4A97-8F91-E7E0BEF6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05F4-022B-4F4F-9CBE-80FC130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2E6C-1240-4755-88D3-7D7EDFF4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C803-AAD6-4CB0-8217-10A4067F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FA8F-C19D-4A49-8B48-950FBCAD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87B-9853-4E4D-888C-A9EE8B81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67D4-F13F-4B7D-B132-0E2C157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76B-DBF9-486C-9D7D-459336A8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6C1-A7F8-4AAD-869A-E8176E87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710-2184-476E-B4F7-4EC2D5C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B68-B57C-4EB5-807A-C87657B2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FEF-79DE-498A-A32C-2EF371E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60FE-0A24-4828-BAA7-1AB243BD3E24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i="1" lang="en-US" sz="5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491-34E2-46DB-B2DC-110D703DE9A9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6699"/>
                </a:solidFill>
                <a:latin typeface="Times New Roman"/>
              </a:rPr>
              <a:t>Life of Christ – Part 2</a:t>
            </a:r>
            <a:br>
              <a:rPr sz="4800"/>
            </a:br>
            <a:r>
              <a:rPr b="0" i="1" lang="en-US" sz="4800" spc="-1" strike="noStrike">
                <a:solidFill>
                  <a:srgbClr val="336699"/>
                </a:solidFill>
                <a:latin typeface="Times New Roman"/>
              </a:rPr>
              <a:t>“Sir, We Would See Jesus”</a:t>
            </a:r>
            <a:endParaRPr b="0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Quarter 10, Lesson 14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rk 14, Matt.26; Luke 22; Joh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3-14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ges 156-161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Summary of Last Lesson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esus was two days away from His crucifix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e tried to tell His disciples again what was about to happe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udas bargained with chief priests to betray Jesu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Disciples Prepared for the Last Passov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y quarreled over who would be greatest in the kingdo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esus washed their feet and tried to teach them that true kingdom greatness was in humility and servic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Judas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sus said that one would fulfill the statement in Psalm 41:9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sus said that this betrayal would actually give greater reason to believe in Him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 betrayer would be better off if he had never been bor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99"/>
                </a:solidFill>
                <a:latin typeface="Times New Roman"/>
              </a:rPr>
              <a:t>Warnings to the Disciples</a:t>
            </a:r>
            <a:endParaRPr b="1" i="1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sus must LEAVE – John 13:31-33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 disciples must LOVE each other – 13:34-35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eter must LEARN he was not as committed as he thought -36-38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rom Passover To The Lord’s Memorial Supper</a:t>
            </a:r>
            <a:endParaRPr b="1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Passover was memorial to the Great Deliverance from Egyptian Bondag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he Lord Memorialized Two Elements After Supper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nleavened Bread – to remember His bod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ruit of the Vine – To remember His blood of the New Testamen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se would take “new” significance in the kingdom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Jesus is our Passove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arewell Discourse In The Upper Room</a:t>
            </a:r>
            <a:endParaRPr b="1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solation: “I am going to prepare a place for you” – John 14:1-4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nversation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do we go to the Father? -14:5-7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How can we know the Father? 14:8-2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arity, help, and revelations are ahead for the faithful apostles – 14:22-3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1787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2438280" y="762120"/>
            <a:ext cx="47628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ewing Jerusa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Mt. of Oliv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2695320" cy="1994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 flipV="1">
            <a:off x="2514600" y="2362320"/>
            <a:ext cx="2590920" cy="137160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37339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Get an idea of what Jesus saw as He approached Jerusalem one last time before His crucifix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Departing from the Upper Room</a:t>
            </a:r>
            <a:endParaRPr b="1" i="1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hey sang a hymn – Mk.14:26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bably a Psalm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Under the circumstances, which Psalm would you imagine to fit Jesus’ needs most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hich Psalm would you like if you had been one of the apostle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last nights on Mt. of Oliv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38080" y="148608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46000" y="1523880"/>
            <a:ext cx="564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Kidron Valley, Mt of Olives from City of David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808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us Is Soon To Approach Jerusalem (After His Capture) From The Mount of Ol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7:05:06Z</dcterms:created>
  <dc:creator>Terry W. Benton</dc:creator>
  <dc:description/>
  <dc:language>en-US</dc:language>
  <cp:lastModifiedBy>Terry W. Benton</cp:lastModifiedBy>
  <dcterms:modified xsi:type="dcterms:W3CDTF">2006-08-22T01:29:39Z</dcterms:modified>
  <cp:revision>6</cp:revision>
  <dc:subject/>
  <dc:title>Life of Christ – Part 2 “Sir, We Would See Jesus”</dc:title>
</cp:coreProperties>
</file>